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FEB-3084-4A0B-BE0E-4DFB37EF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ACA-DB6B-4986-BF3B-2FFE1221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48D-AA05-4A6A-91D1-F743ED04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054-D01E-43E8-9378-03185DAC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9383-4649-4076-AC3F-1B1B5793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8871-661D-4263-B4EE-1A50A75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6C54-7010-45E9-8CD1-B6B7EB63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FBFA-89B4-44AB-8E92-136FD7BE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1EE-F5F6-4ED0-86BD-B6A4BBF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D23D-D5B0-4664-A58E-8D1D306B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2D70-BBE1-49E5-AD6C-8027DF4A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118-E115-4D6E-BC69-6400E14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6A36-C354-4C05-A309-BBDEF0C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DA6C-FD0F-485F-A54A-78B6209F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6BE5-6717-4411-933D-ABB79A4B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4E23-54F2-4ADA-8870-606BFE0B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B682-FC5A-44C6-B909-B97B5397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589-646E-4752-93C1-13681EA1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065-4B95-4336-B8B7-838498F3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113-FEFD-4194-8F4C-9A699850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074-E6D3-4775-BA19-18D4EAB0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789-29A4-48F4-92AC-0A928E99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39F-95A8-4731-91FB-F5F1F69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7CB-3F23-4E70-B8B9-E93FDF0B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EF56-FEA0-4FDB-978B-CF1D42C4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FE1D-7B3F-4328-A584-7CEE9FA66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ews.bbc.co.uk/onthisday/hi/dates/stories/november/9/newsid_2515000/2515869.s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ayofPig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4/Castro_Khrushchev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17.2:  JFK &amp; the Cold W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0-19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Rectangle 7" descr=""/>
          <p:cNvPicPr/>
          <p:nvPr/>
        </p:nvPicPr>
        <p:blipFill>
          <a:blip r:embed="rId1"/>
          <a:stretch/>
        </p:blipFill>
        <p:spPr>
          <a:xfrm>
            <a:off x="0" y="48420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howdown__The_Cuban_Missile_Crisis.asf" descr=""/>
          <p:cNvPicPr/>
          <p:nvPr/>
        </p:nvPicPr>
        <p:blipFill>
          <a:blip r:embed="rId1"/>
          <a:stretch/>
        </p:blipFill>
        <p:spPr>
          <a:xfrm>
            <a:off x="30240" y="152280"/>
            <a:ext cx="916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BHS US History\Unit 9 Cold War and JFK\ch 15 Cold War\nuclear monster pc.jpg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.  Cold War Continues 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(’61)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erlin Crisis (West Berl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 Berlin was thriv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 of East Berliners mig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hrushchev builds “Berlin Wa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    August 19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.   Ended crisis but tensions rem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 Symbolized communist op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Berlin City Map with Berlin Wall"/>
          <p:cNvPicPr/>
          <p:nvPr/>
        </p:nvPicPr>
        <p:blipFill>
          <a:blip r:embed="rId1"/>
          <a:stretch/>
        </p:blipFill>
        <p:spPr>
          <a:xfrm>
            <a:off x="5029200" y="1752480"/>
            <a:ext cx="38098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Image:Berlin Wall 1961-11-20.jpg"/>
          <p:cNvPicPr/>
          <p:nvPr/>
        </p:nvPicPr>
        <p:blipFill>
          <a:blip r:embed="rId1"/>
          <a:stretch/>
        </p:blipFill>
        <p:spPr>
          <a:xfrm>
            <a:off x="1371600" y="1523880"/>
            <a:ext cx="7201080" cy="5069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uilding of the “Death Strip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age:Berlinermauer.jpg"/>
          <p:cNvPicPr/>
          <p:nvPr/>
        </p:nvPicPr>
        <p:blipFill>
          <a:blip r:embed="rId1"/>
          <a:stretch/>
        </p:blipFill>
        <p:spPr>
          <a:xfrm>
            <a:off x="1752480" y="144792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ath Stri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erlin Wall 1990"/>
          <p:cNvPicPr/>
          <p:nvPr/>
        </p:nvPicPr>
        <p:blipFill>
          <a:blip r:embed="rId1"/>
          <a:stretch/>
        </p:blipFill>
        <p:spPr>
          <a:xfrm>
            <a:off x="1371600" y="838080"/>
            <a:ext cx="71629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l Falls November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The Berlin Wall is demolished"/>
          <p:cNvPicPr/>
          <p:nvPr/>
        </p:nvPicPr>
        <p:blipFill>
          <a:blip r:embed="rId1"/>
          <a:stretch/>
        </p:blipFill>
        <p:spPr>
          <a:xfrm>
            <a:off x="1371600" y="380880"/>
            <a:ext cx="7162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2.  Trying to ease ten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line- direct telephonic line between the White House and the Kremlin (196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Test Ban Treaty- stopped nuclear testing in the atmosphere (196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Photo by the Presidential Press Service"/>
          <p:cNvPicPr/>
          <p:nvPr/>
        </p:nvPicPr>
        <p:blipFill>
          <a:blip r:embed="rId1"/>
          <a:stretch/>
        </p:blipFill>
        <p:spPr>
          <a:xfrm>
            <a:off x="762120" y="685800"/>
            <a:ext cx="80010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.  “Flexible response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for a variety of military responses rather than just focusing on nuclear weap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built up all branches of 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Forces AKA Green Ber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Image:Yarborough &amp; J.F.Kennedy.jpg"/>
          <p:cNvPicPr/>
          <p:nvPr/>
        </p:nvPicPr>
        <p:blipFill>
          <a:blip r:embed="rId1"/>
          <a:stretch/>
        </p:blipFill>
        <p:spPr>
          <a:xfrm>
            <a:off x="5259240" y="1523880"/>
            <a:ext cx="2587680" cy="243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:US Army Special Forces.Airborne patch.jpg"/>
          <p:cNvPicPr/>
          <p:nvPr/>
        </p:nvPicPr>
        <p:blipFill>
          <a:blip r:embed="rId2"/>
          <a:stretch/>
        </p:blipFill>
        <p:spPr>
          <a:xfrm>
            <a:off x="5721480" y="4114800"/>
            <a:ext cx="16635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news.bbc.co.uk/onthisday/hi/dates/stories/november/9/newsid_2515000/2515869.s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.  Aid to Other Countries</a:t>
            </a:r>
            <a:br>
              <a:rPr sz="4400"/>
            </a:br>
            <a:r>
              <a:rPr b="0" lang="en-US" sz="1800" spc="-1" strike="noStrike">
                <a:solidFill>
                  <a:srgbClr val="221304"/>
                </a:solidFill>
                <a:latin typeface="Times New Roman"/>
              </a:rPr>
              <a:t>(to stop communism!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e for Progres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 B for L.A.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ace Cor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nteers who helped in developing countries such as Asia, Latin America &amp;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Marshall Islands 10"/>
          <p:cNvPicPr/>
          <p:nvPr/>
        </p:nvPicPr>
        <p:blipFill>
          <a:blip r:embed="rId1"/>
          <a:stretch/>
        </p:blipFill>
        <p:spPr>
          <a:xfrm>
            <a:off x="5029200" y="1649520"/>
            <a:ext cx="3398760" cy="231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Image:Moz.jpg"/>
          <p:cNvPicPr/>
          <p:nvPr/>
        </p:nvPicPr>
        <p:blipFill>
          <a:blip r:embed="rId2"/>
          <a:stretch/>
        </p:blipFill>
        <p:spPr>
          <a:xfrm>
            <a:off x="5867280" y="4038480"/>
            <a:ext cx="19814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.  Cold War in Space:</a:t>
            </a:r>
            <a:br>
              <a:rPr sz="4400"/>
            </a:b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“The Eagle has landed”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7521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ave m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‘6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atell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‘57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: John Glen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: Neil Armstrong &amp; Buzz Aldrin first to walk the mo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: math and scie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i.telegraph.co.uk/multimedia/archive/01442/1969-Apollo-11-cre_1442382c.jpg"/>
          <p:cNvPicPr/>
          <p:nvPr/>
        </p:nvPicPr>
        <p:blipFill>
          <a:blip r:embed="rId1"/>
          <a:stretch/>
        </p:blipFill>
        <p:spPr>
          <a:xfrm>
            <a:off x="4967280" y="4191120"/>
            <a:ext cx="414324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oncampus.osu.edu/wp-content/uploads/2009/05/johnglenn-4c.jpg"/>
          <p:cNvPicPr/>
          <p:nvPr/>
        </p:nvPicPr>
        <p:blipFill>
          <a:blip r:embed="rId2"/>
          <a:stretch/>
        </p:blipFill>
        <p:spPr>
          <a:xfrm>
            <a:off x="5715000" y="1665360"/>
            <a:ext cx="2011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D.  Cuban Crises &amp; </a:t>
            </a:r>
            <a:br>
              <a:rPr sz="3600"/>
            </a:b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Fidel Castro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Cuban Dile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9- overthrew B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Cubans; promised 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get a dictatorship and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over American &amp; British owned oil refin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places embargo on Cuban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viets befriend h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ns exiled to Mi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image 1"/>
          <p:cNvPicPr/>
          <p:nvPr/>
        </p:nvPicPr>
        <p:blipFill>
          <a:blip r:embed="rId1"/>
          <a:stretch/>
        </p:blipFill>
        <p:spPr>
          <a:xfrm>
            <a:off x="5867280" y="609480"/>
            <a:ext cx="17766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ts3.mm.bing.net/images/thumbnail.aspx?q=1628468285602&amp;id=836d2fbc2050287e8b98f8aa004a0b3d&amp;url=http%3a%2f%2fpoliticalkudzu.com%2fwp-content%2fuploads%2f2008%2f02%2ffidel_raul_castro.jpg"/>
          <p:cNvPicPr/>
          <p:nvPr/>
        </p:nvPicPr>
        <p:blipFill>
          <a:blip r:embed="rId2"/>
          <a:stretch/>
        </p:blipFill>
        <p:spPr>
          <a:xfrm>
            <a:off x="4800600" y="3429000"/>
            <a:ext cx="4029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2.  Bay of Pigs April 1961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038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to train Cuban exiles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Bri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to overthrow C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or fail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failed miserab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lations success for C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 JFK considered incompe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$53 million in food and medical supplies for release of sold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BayofPi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895480"/>
            <a:ext cx="41148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4.  Cuban Missile Crisis 1962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missiles in 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 from Cuba = attack on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quarantines Cuba = SU ships do not p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rushchev &amp; Kennedy make agre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ro &amp; Khrushc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File:Castro Khrushche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9625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issile cuba"/>
          <p:cNvPicPr/>
          <p:nvPr/>
        </p:nvPicPr>
        <p:blipFill>
          <a:blip r:embed="rId1"/>
          <a:stretch/>
        </p:blipFill>
        <p:spPr>
          <a:xfrm>
            <a:off x="685800" y="555480"/>
            <a:ext cx="81788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Rectangle 7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chool District U46</cp:lastModifiedBy>
  <dcterms:modified xsi:type="dcterms:W3CDTF">2012-03-07T17:57:24Z</dcterms:modified>
  <cp:revision>25</cp:revision>
  <dc:subject/>
  <dc:title>PowerPoint Presentation</dc:title>
</cp:coreProperties>
</file>